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6D5-D4D1-4A07-A414-229F4737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4C1-2815-4FAD-8267-5D7B7D54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DE4-B4D9-4FFD-B48D-05A2C9BC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A15-3A76-4124-A064-5E48ACD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381-A762-4AD5-8D32-0A90E85E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CEA-5C0A-4C1B-BC39-51C2545E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DDB-5F7F-4EDA-B26A-E36C8E7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607-C45B-45A8-AF02-8F16810D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36A-F03E-45FD-B0CC-621B222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C1A-3871-47D4-BCEB-7304FB4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217-8BD5-4BAA-9A04-AD39854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F28-C7D0-41B6-85A3-5C5FBB9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34E8-E7E1-4184-AF49-75F363980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54100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or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20446200">
            <a:off x="2590560" y="1600200"/>
            <a:ext cx="99036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37160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1952600">
            <a:off x="3657240" y="4647960"/>
            <a:ext cx="99072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9015000">
            <a:off x="5562000" y="403812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388800">
            <a:off x="2171520" y="25524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706600">
            <a:off x="6285960" y="224784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802600">
            <a:off x="5410080" y="137160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902400">
            <a:off x="4495320" y="11430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695400">
            <a:off x="2323800" y="3619080"/>
            <a:ext cx="99036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4395200">
            <a:off x="2781000" y="438120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345200">
            <a:off x="6057360" y="3314520"/>
            <a:ext cx="990720" cy="167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937800">
            <a:off x="4724280" y="4419720"/>
            <a:ext cx="990720" cy="167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H="1">
            <a:off x="5029200" y="4191120"/>
            <a:ext cx="76320" cy="1981080"/>
          </a:xfrm>
          <a:prstGeom prst="line">
            <a:avLst/>
          </a:prstGeom>
          <a:ln w="1144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191120"/>
            <a:ext cx="1219320" cy="1676160"/>
          </a:xfrm>
          <a:prstGeom prst="line">
            <a:avLst/>
          </a:prstGeom>
          <a:ln w="1144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095880" y="2057400"/>
            <a:ext cx="1981440" cy="990720"/>
          </a:xfrm>
          <a:prstGeom prst="line">
            <a:avLst/>
          </a:prstGeom>
          <a:ln w="11448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361960" y="3809880"/>
            <a:ext cx="1904760" cy="1143000"/>
          </a:xfrm>
          <a:prstGeom prst="line">
            <a:avLst/>
          </a:prstGeom>
          <a:ln w="114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05520" y="685440"/>
            <a:ext cx="0" cy="2133720"/>
          </a:xfrm>
          <a:prstGeom prst="line">
            <a:avLst/>
          </a:prstGeom>
          <a:ln w="1144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057400" y="3581280"/>
            <a:ext cx="2209680" cy="76320"/>
          </a:xfrm>
          <a:prstGeom prst="line">
            <a:avLst/>
          </a:prstGeom>
          <a:ln w="1144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962520"/>
            <a:ext cx="1828800" cy="129528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429000"/>
            <a:ext cx="2286000" cy="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666880" y="1904760"/>
            <a:ext cx="1828800" cy="1143000"/>
          </a:xfrm>
          <a:prstGeom prst="line">
            <a:avLst/>
          </a:prstGeom>
          <a:ln w="1144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429000" y="990720"/>
            <a:ext cx="1295280" cy="1676160"/>
          </a:xfrm>
          <a:prstGeom prst="line">
            <a:avLst/>
          </a:prstGeom>
          <a:ln w="1144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124080" y="3962520"/>
            <a:ext cx="1524240" cy="1600200"/>
          </a:xfrm>
          <a:prstGeom prst="line">
            <a:avLst/>
          </a:prstGeom>
          <a:ln w="11448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638680" y="1219320"/>
            <a:ext cx="1371600" cy="1676160"/>
          </a:xfrm>
          <a:prstGeom prst="line">
            <a:avLst/>
          </a:prstGeom>
          <a:ln w="1144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37000">
            <a:off x="4419720" y="2819160"/>
            <a:ext cx="13395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4771"/>
          <a:stretch/>
        </p:blipFill>
        <p:spPr>
          <a:xfrm>
            <a:off x="1447920" y="295200"/>
            <a:ext cx="6172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181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61960" y="304920"/>
            <a:ext cx="6220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8560" y="304920"/>
            <a:ext cx="581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3085" t="4664" r="23089" b="22214"/>
          <a:stretch/>
        </p:blipFill>
        <p:spPr>
          <a:xfrm>
            <a:off x="1219320" y="0"/>
            <a:ext cx="723888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16:21Z</dcterms:created>
  <dc:creator>Patrick J. Mooney</dc:creator>
  <dc:description/>
  <dc:language>en-US</dc:language>
  <cp:lastModifiedBy>Patrick J. Mooney</cp:lastModifiedBy>
  <dcterms:modified xsi:type="dcterms:W3CDTF">2012-02-23T04:36:36Z</dcterms:modified>
  <cp:revision>13</cp:revision>
  <dc:subject/>
  <dc:title>Slide 1</dc:title>
</cp:coreProperties>
</file>